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png" ContentType="image/png"/>
  <Override PartName="/ppt/media/image5.gif" ContentType="image/gif"/>
  <Override PartName="/ppt/media/image14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13.jpeg" ContentType="image/jpeg"/>
  <Override PartName="/ppt/media/image18.gif" ContentType="image/gif"/>
  <Override PartName="/ppt/media/image4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24.jpeg" ContentType="image/jpeg"/>
  <Override PartName="/ppt/media/image23.gif" ContentType="image/gif"/>
  <Override PartName="/ppt/media/image17.gif" ContentType="image/gif"/>
  <Override PartName="/ppt/media/image25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5.jpeg" ContentType="image/jpeg"/>
  <Override PartName="/ppt/media/image3.gif" ContentType="image/gif"/>
  <Override PartName="/ppt/media/image26.gif" ContentType="image/gif"/>
  <Override PartName="/ppt/media/image16.gif" ContentType="image/gif"/>
  <Override PartName="/ppt/media/image19.jpeg" ContentType="image/jpe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8DD-AAC1-4A86-9520-1EB1EE8A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ADE-077C-4E55-88E4-A598178C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41E-0697-4E72-A829-CB3CD44A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658-D854-4535-B161-7856CC93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983-2E84-4872-86E4-93F21F9E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B8F-DF7C-4EFD-9038-3C4293E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3C1-CC47-4E78-A099-94B0ED9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EF0-0264-4600-91BD-6FF9B9A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2CD-F3B9-47E3-9842-645B50C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273-74BE-438C-B507-5376348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319-83E2-4E12-8AD2-0FF6254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513-FF31-42F9-B672-3A80242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C24-24C8-49A1-82FC-90C38B236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4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6913440" cy="236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83664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03280" y="4076640"/>
            <a:ext cx="64198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欢迎光临指导</a:t>
            </a: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664920" cy="66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3240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3683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3882960" y="1484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议一议：实际生活中你遇到此类事情怎么办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13372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事例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周兵和宋杰是好朋友，他们曾经许诺，不管谁遇到困难，一定要互相帮助。这天周兵想抄宋杰的作业，宋杰没同意，他生气的说：“这点忙都不帮，真不讲信用。”（讨论：你对这件事怎么看？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事例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王娟的爸爸参加了援藏医疗队。最近，她妈妈得了重病住进了医院。爸爸来信问到家里的情况，王娟不知道该不该把妈妈生病的事如实地告诉爸爸。（讨论：她应该怎么办？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事例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李三看见同学花钱大方，他很羡慕，。有一天，他趁他的同桌不注意，便拿了同学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钱。张老师调查时，他怎么也不承认。后来，张老师说：“如果你信任我，就把真相告诉我，我保证不对任何人说。”听了张老师的话，他很快就把事情告诉了张老师。（讨论：你知道为什么吗？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小结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怎样才能作到诚实守信呢？以上的事例要求我们，要养成诚信的优良品质，我们应该从小就开始培养诚实守信的好品质，平时就要严格要求自己，做到表里如一，言而有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1" name=""/>
          <p:cNvSpPr/>
          <p:nvPr/>
        </p:nvSpPr>
        <p:spPr>
          <a:xfrm>
            <a:off x="2883600" y="198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：你愿意和谁交朋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9240" y="3141720"/>
            <a:ext cx="222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当面说好话，背后说坏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直言不讳，大胆说自己的看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没有把握不轻易答应，一旦答应就 要尽力而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对别人的要求满口答应，但过后就忘，不能兑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125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老师布置的作业，你怎么完成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抄别人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独立完成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请别人完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你看到有同学抄作业，你怎么办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告诉老师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一起抄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做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做错的作业你怎么办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放在一边，不管它们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请别人帮忙改错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马上改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当你得到假币时，你怎么办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尽快用出去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己放着，不用它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想法子跟朋友交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 考试中有同学问你答案，你会回答吗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会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告诉老师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拾到他人钱包，你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  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Ａ、据为己有    Ｂ、找到失主，交还钱包    Ｃ、交还钱包，索要报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假如爸爸妈妈拒不赡养爷爷奶奶，你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 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Ａ、视而不见    Ｂ、心里不满，无可奈何    Ｃ、说服爸妈，改变态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假如你是推销员，明知你推销的商品有缺陷，你应对顾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 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Ａ、讲清商品的真实情况 Ｂ、只讲优点，不讲缺陷 Ｃ、什么也不说，由顾客自己决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/>
          <p:nvPr/>
        </p:nvSpPr>
        <p:spPr>
          <a:xfrm>
            <a:off x="4325040" y="177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夸一夸：我们周围哪些事例是属于诚实守信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34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诚信小测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ShockwaveFlash1"/>
          <p:cNvGraphicFramePr/>
          <p:nvPr/>
        </p:nvGraphicFramePr>
        <p:xfrm>
          <a:off x="1332000" y="1989000"/>
          <a:ext cx="6696000" cy="410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989000"/>
                    <a:ext cx="6696000" cy="410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1447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多米诺皮公司在他们的经营中总是保证在最多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分钟内将货品送到任何规定的地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有一次，长途运输车出了故障，有一家商店差点中断了生面团的供应，公司总裁即下决心包下一架飞机，把生面团及时送到商店。总裁说：“我们宁可赔偿高额的运输费，也不可中断我们的供货，飞机送去的不仅是几百斤的面团，而是我们公司的信誉！ 信誉！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32448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990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828800"/>
            <a:ext cx="502920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请看一个发生在校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里我们熟悉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600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5257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你是如何看待同学们在平时听写、小测中“左顾右盼”、“偷鸡摸狗”的行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971800" cy="381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3886200"/>
            <a:ext cx="419076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色：无所谓，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绿色：不是很好，看不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271296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67640" y="5516640"/>
            <a:ext cx="762120" cy="72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141300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诚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276640"/>
            <a:ext cx="72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诚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就是诚实，真诚，说老实话，办老实事，不欺人，不做作，不掩饰。“诚”不仅仅是一个人为人处事的方法和态度，而且是人的道德素质借以体现的重要方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005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信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就是守信，就是一言一行都要遵守自己的诺言，不论对自己和他人，凡是自己承诺的便一定要兑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320040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1447920"/>
            <a:ext cx="5105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如何看待故事中的“正义的学生”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200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</a:rPr>
              <a:t>如果是你，你也会成为“正义的学生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648320"/>
            <a:ext cx="5410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色：不会，跟我关系不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绿色：会，我最讨厌这种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0200" y="1981080"/>
            <a:ext cx="594360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小品欣赏：  火车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表演者：何诗敏、邬少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3880" y="2438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你对小品中的故事有何看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505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诚信需要大家的共同的维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152720" cy="105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523880"/>
            <a:ext cx="8642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盘古说：诚信是开天的巨斧。　　女娲说：诚信是补天的五彩晶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牛顿说：诚信是我的三大定律。　爱因斯坦说：诚信是我的相对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愚者说：诚信是伪君子的假惺惺。智者说：诚信是人类闪光的金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哲人说：诚信是世间万物的源泉。妈妈说：诚信是做人的准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老师说：诚信是成长的基准。　　朋友说：诚信是交友的基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50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说：诚信是＿＿＿＿＿＿＿＿＿＿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92360" y="1557360"/>
            <a:ext cx="432108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我应该怎样做</a:t>
            </a:r>
            <a:r>
              <a:rPr b="1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63640" y="2924280"/>
            <a:ext cx="2951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不要轻易许诺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050920" y="4005360"/>
            <a:ext cx="411480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答应的事一定要做到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00360" y="5084640"/>
            <a:ext cx="373392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特殊原因即早说明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26920" y="2349360"/>
            <a:ext cx="7201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让诚信之花在初二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(8)</a:t>
            </a: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班 永开不败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!!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404640"/>
            <a:ext cx="3995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诚信约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71480" y="1052640"/>
            <a:ext cx="7601040" cy="4681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755640" y="1844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95280" y="476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771640" y="692280"/>
            <a:ext cx="1238400" cy="23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xit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164360" y="4581360"/>
            <a:ext cx="762120" cy="72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39640" y="1700280"/>
            <a:ext cx="8064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做诚信人 办诚信事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08360" y="3716280"/>
            <a:ext cx="45720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——</a:t>
            </a: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主题班会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" name=""/>
          <p:cNvSpPr/>
          <p:nvPr/>
        </p:nvSpPr>
        <p:spPr>
          <a:xfrm>
            <a:off x="4123080" y="2060640"/>
            <a:ext cx="9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诗朗诵《诚信之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978000" cy="284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064720" cy="532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" name=""/>
          <p:cNvSpPr/>
          <p:nvPr/>
        </p:nvSpPr>
        <p:spPr>
          <a:xfrm>
            <a:off x="1638720" y="14130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中国古人诚信故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73800" y="30862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《金斧头的故事》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028000" y="580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8979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/>
          <p:nvPr/>
        </p:nvSpPr>
        <p:spPr>
          <a:xfrm>
            <a:off x="1039680" y="1557360"/>
            <a:ext cx="2086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曾子杀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6298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曾子是个非常诚实守信的人。有一次，曾子的妻子要去赶集，孩子哭闹着也要去。妻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孩子说，你不要去了，我回来杀猪给你吃。她赶集回来后，看见曾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要杀猪，连忙上前阻止。曾子说，你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欺骗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了孩子，孩子就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信任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。说着，就把猪杀了。曾子不欺骗孩子，也培养了孩子讲信用的品德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773360"/>
            <a:ext cx="44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国外名人诚信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" name=""/>
          <p:cNvSpPr/>
          <p:nvPr/>
        </p:nvSpPr>
        <p:spPr>
          <a:xfrm>
            <a:off x="2333880" y="2182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普通人诚信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657600" y="228600"/>
            <a:ext cx="4875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做诚信人 办诚信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640" y="1341360"/>
            <a:ext cx="576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听了这些故事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有何感想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2781360"/>
            <a:ext cx="496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是做人的基本准则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63640" y="364500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应成为一个人的习惯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76360" y="4581360"/>
            <a:ext cx="5473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人不信于一时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则不信于一世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360" y="5589720"/>
            <a:ext cx="57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诚实守信是无价之宝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29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9:06Z</dcterms:modified>
  <cp:revision>106</cp:revision>
  <dc:subject>主题班会课件(分28大类): http://shop62905894.taobao.com</dc:subject>
  <dc:title>主题班会课件(分28大类): http://shop62905894.taobao.com</dc:title>
</cp:coreProperties>
</file>